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5EB-0439-4450-9953-746DE10B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9F0-074A-42A6-B37D-1EED2EA1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E5CF-F665-4487-BBAB-340872A72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B17-61E1-42ED-BD69-B7C2C1B94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8E9-6F2B-4BB5-A5F1-D17977F7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B20-DAFD-46A5-8BC3-BE9B88D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2693-827E-467C-8665-EC8CD8F4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E9002-26B7-47C1-B9F9-50EAC207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62D6-4FB0-4A73-9909-A4CAD1B2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0782-98F5-4F09-B474-42C3C62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C33C-CCE6-41BE-9B2E-5302242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9BC7-5022-4435-8E44-36F33E6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73F14-E81E-424C-BAD6-314098D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6E4AE-A4EF-41D7-B147-A1A5706E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9624-D7E1-48A4-97CD-1053A311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2A1E-6A88-493B-8FF2-6B8A791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179-5417-4EDE-95BB-AC9DAC8C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DB2CE-CA60-43ED-B345-82193408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FF190-B128-403A-8D85-ECE59F9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3B23-09A4-47D3-BA7D-1413AEF1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7770F-F82B-480D-8206-C88F6D8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CF364-23E8-4355-8172-4B82CCA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28F31-17DA-4F17-9707-24F4464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F23B-FE05-43D5-8348-379E506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BAC4B-0961-45E8-AE1E-76E8CA34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F50CA-30BA-4720-AE80-05900E4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DD625-38B0-43CC-B12E-1B2D398C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D7F-D305-4F3C-9C75-F998CD36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0855-E8C2-4FF8-95CE-7BD9893D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91EFB-748C-45FB-BB44-3AE8E4AB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6772-BC74-4098-841D-37CB7A47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919E1-7150-4DE7-B2AC-C3946DBA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BAF59-059D-4AEB-9C4F-2783E23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8A7C-1176-4346-8486-C805E9D0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84C80-289B-4A5E-837C-405091C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50064-0C59-45E3-8D0E-7EBCCA1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6BA76-175D-4479-B060-8F935A4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71820-E919-4B10-BA37-40B09B2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9258-E3B3-4C8E-A5EC-CBA9AB21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6A4B-0957-4746-9C4A-1F1E5C8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53FC9-DF7E-4D0B-91C7-E836AAD9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1880-508F-4C12-9CB2-C87C8538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88D-8254-4A70-9F23-E6F5DA0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9F63-4144-4671-A2C4-F93F8205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DAF4-EC3E-4B00-A8F2-C4007621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D5EB-9650-49F1-9F2A-A0E53A21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17B6-35A4-4860-9F30-E4D77E5B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DA16-AF2B-41A3-88C8-3B23202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BDF-6D6C-41D2-9700-E0A18C7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88BF-D75B-4C8F-8B92-966B448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6F42-695F-4248-8D11-49A5004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D30-4F74-4CFA-B732-53140D9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0D7-1D0E-4D04-8859-0DA22CAA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C80-BB87-4153-983B-C4702960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BCC-0B12-4FC3-A6A6-A8963E74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C11-1872-43A9-9311-8C78171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B452-90D7-42E4-A915-7B0C845E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10D-53F3-4D29-8320-69831E0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B080-275F-4808-886A-F38D64A3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260F-F5F7-47C0-A0D5-531EB28E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5C89-9986-4216-AA2B-94FCD5D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2D8A-B2A3-425E-AEC3-FFB114ED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8B541-ADD6-479C-953A-93B51E4E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8A29-6EE4-4D3F-8083-FCC48BB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6A2A-B43A-4477-B9EE-FAE9CCA0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BB85-0A24-434E-9B99-1998B18F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8A150-0DEB-4094-BB3C-AA4C6D5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B2C8-5193-4001-B2BF-036068EA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731-D602-4192-8304-EA06A2E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2DD8-24FD-4903-A4B5-0BBE76F5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86A2-75A8-45D1-ACA8-D5C23DA1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99FB-BC72-45C7-AE82-DC6BF4D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35B1-4181-48BB-8363-EEA041D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A977-3DA9-473A-886D-21C7990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EEA2-17A2-49D7-85F1-5E6C6814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3F9C-FB99-49C5-BF6B-514BEC8E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A32C-CE07-4A78-AA99-5BE3ADA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4DA9-B4FE-4981-B37C-8F0CA6D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E4EB-8ABD-44AD-AFF1-223B38F6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407-6720-4DB0-AC9E-083F616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5CD6-6633-48CE-9EAE-9C312A40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B3C8C-561E-4ABF-8C92-04724B0D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51C9-F23E-4387-97AF-C520F16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839E-E581-4BD1-A4BC-6183A03A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5345-10F9-425C-97C6-2713814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42E5F-46EB-451F-8720-9381752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8ED3-5417-4BEF-B200-7FE47B3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A45B-7415-4DD0-8060-BDA90EC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84F4-4095-4E37-8FCF-CC6B1E2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CE2D-11F7-4055-9FEC-FBF01EF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4E3-13D6-4853-9AF7-EF499DD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8016-1E44-4F1A-B6FE-4CBF1ED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A3EE4-0EAC-4A9C-90DC-1A87A38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997F9-AB77-42B0-BB3D-126DB00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E139-F8B8-4253-988E-86DEFC5C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08593-9D0B-4639-91F0-85F24F3E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6E8B-F645-4F5A-9806-FECE52B5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D88B-F632-4D37-B0AD-E8C57AB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339A3-7775-4D99-9D56-5BDA0F7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E60C-1C57-4AFC-A876-583FC7C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47EE-9632-478A-B496-50B4B3D7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6BB-3725-4CCD-93DB-D7549936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5A11-16FE-490E-A901-7640D9D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45E1-0E6F-4638-BDC2-A3666D6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D489-A713-4D0C-97F8-987BE02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56C6-FF80-4C39-8C17-BD577B26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6C6A-0977-4E6F-8559-091540E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C6BC-41F6-41A2-AECE-EC9589F4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1E0D9-75BB-4CDB-B8D8-978B3B5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DD110-BFF0-49F5-85DC-57B6F598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DE788-A47C-4E3B-97D5-237FF0BB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48E8-BB10-4DA0-9E19-EA47F8F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CB2-AE97-4968-9307-7B78DCD57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266-6360-4BAB-A6FF-ABC736957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3E2-1AA5-4160-AA01-9E61117D8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2D3-1393-4AB6-A8F6-FB21D64A9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9137-5B74-4204-8863-D60602C1D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E68E-1246-4218-89D5-E1C63ACF5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63A-D17C-4FE2-BB30-9AD3763A0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5D43-FD62-410E-A6CA-1B5AD893C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F53-AC88-4800-95CD-3292B86D7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larly &amp; Popu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a6a6"/>
                </a:solidFill>
                <a:latin typeface="Calibri"/>
              </a:rPr>
              <a:t>Objective: Students will be able to differentiate between scholarly and popular artic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er Reviewed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er reviewed article has been reviewed for publication by a group of experts.  These experts are called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re highly specialized professionals or scholars in that field of expert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articles in scholarly journals, but not all, have been peer re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-15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can access many popular and scholarly articles through the databases on 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oneer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uch 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IR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BSC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105520" y="3273480"/>
            <a:ext cx="3646440" cy="158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3819240" cy="166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4" name="Picture 7" descr=""/>
          <p:cNvPicPr/>
          <p:nvPr/>
        </p:nvPicPr>
        <p:blipFill>
          <a:blip r:embed="rId3"/>
          <a:stretch/>
        </p:blipFill>
        <p:spPr>
          <a:xfrm>
            <a:off x="4876920" y="4881600"/>
            <a:ext cx="16002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011240" y="2179800"/>
            <a:ext cx="71722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06" name="Rectangle 2"/>
          <p:cNvSpPr/>
          <p:nvPr/>
        </p:nvSpPr>
        <p:spPr>
          <a:xfrm>
            <a:off x="1073160" y="5943600"/>
            <a:ext cx="160020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974880" y="609480"/>
            <a:ext cx="73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limit to scholarly/peer-reviewed journals in some databases, but keep in mind that not all of the articles found using this limiter are scholarly and/or peer-revi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scholarly and popular articles can be used in research, but be aware of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qual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can either be…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holarl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opula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6" descr="C:\Users\Operator\AppData\Local\Microsoft\Windows\Temporary Internet Files\Content.IE5\IQUTI593\MC900273024[1].wmf"/>
          <p:cNvPicPr/>
          <p:nvPr/>
        </p:nvPicPr>
        <p:blipFill>
          <a:blip r:embed="rId1"/>
          <a:stretch/>
        </p:blipFill>
        <p:spPr>
          <a:xfrm>
            <a:off x="3505320" y="4952880"/>
            <a:ext cx="182700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researching a topic, you may be asked to find both scholarly and popular articles.  These articles will be found in either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cholarly journ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popular magazi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ing on the type of information you are looking f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cholarl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ually refers to journals  such 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1"/>
          <a:stretch/>
        </p:blipFill>
        <p:spPr>
          <a:xfrm>
            <a:off x="762120" y="1909800"/>
            <a:ext cx="2847960" cy="377172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774000" y="5688000"/>
            <a:ext cx="250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pubs.acs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on/showLargeCover?issue=330362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7" descr=""/>
          <p:cNvPicPr/>
          <p:nvPr/>
        </p:nvPicPr>
        <p:blipFill>
          <a:blip r:embed="rId2"/>
          <a:stretch/>
        </p:blipFill>
        <p:spPr>
          <a:xfrm>
            <a:off x="5181480" y="19098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485" name="TextBox 3"/>
          <p:cNvSpPr/>
          <p:nvPr/>
        </p:nvSpPr>
        <p:spPr>
          <a:xfrm>
            <a:off x="5195880" y="5743440"/>
            <a:ext cx="308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jama.ama-assn.org/conten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5/15/1860.f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holarly journal articles have the following characteristi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written by someone who is an exper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 has done research on the sub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written for schol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do not have many pictures, but may include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tabl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often include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abstra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itation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Refere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bibliograph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usually included at the end of the artic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usually refers to magazines such 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914400" y="5767560"/>
            <a:ext cx="373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www.time.com/time/covers/0,16641,1101110131,00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914400" y="1736640"/>
            <a:ext cx="3048120" cy="4030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2"/>
          <a:stretch/>
        </p:blipFill>
        <p:spPr>
          <a:xfrm>
            <a:off x="4876920" y="1747800"/>
            <a:ext cx="3049560" cy="4043520"/>
          </a:xfrm>
          <a:prstGeom prst="rect">
            <a:avLst/>
          </a:prstGeom>
          <a:ln w="0">
            <a:noFill/>
          </a:ln>
        </p:spPr>
      </p:pic>
      <p:sp>
        <p:nvSpPr>
          <p:cNvPr id="492" name="TextBox 3"/>
          <p:cNvSpPr/>
          <p:nvPr/>
        </p:nvSpPr>
        <p:spPr>
          <a:xfrm>
            <a:off x="4892760" y="5791320"/>
            <a:ext cx="3375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taken from http://static.seekingalpha.com/upload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10/4/4/saupload_040717_cov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ular magazine articles have the following characteristi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for the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general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a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journa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epo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xtensive adverti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graphics, and photo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shed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aily, weekly, or mont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ly include references or ci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current events, trends, opinions and topic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pular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Scholarly Journal &amp; Popular Magazine Artic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85800" y="1905120"/>
          <a:ext cx="7848720" cy="42066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larly Journal Arti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 Magazine Artic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lars in a specific subject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eneral 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xpert or researcher; i.e. an artist, historian, doctor, educ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journalist, celebrity, general 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little advertising; graphics specialized, if 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advertisements and photograp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ing level is advanced;  use specialized vocabu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ing level is very basic for general 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shed quarterly or bi-monthly, usu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shed weekly or 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Scholarly Journals &amp; Popular Magazines—con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04920" y="1676520"/>
          <a:ext cx="8610480" cy="479412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larly Journal 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r Magazine Arti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de references to sources, bibliographies, full citations (at end of artic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rely include references, bibliographies, or ci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ed in specialized databases such a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education artic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ed in general databases such a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er</a:t>
                      </a:r>
                      <a:r>
                        <a:rPr b="1" i="1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Guide o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ss specific topics in a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cholarly 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de current events, trends, opinions and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pular intere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en include an abstract or brief summary of the article to inform the rea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en include inviting title and subtitles to encourage reading the arti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ved for publication by a group of specialists in the same field of interest; this is calle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reviewe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ved for publication by the magazine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edi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3:34:50Z</dcterms:created>
  <dc:creator>Operator</dc:creator>
  <dc:description/>
  <dc:language>en-US</dc:language>
  <cp:lastModifiedBy>Laurel Harris</cp:lastModifiedBy>
  <dcterms:modified xsi:type="dcterms:W3CDTF">2013-01-28T20:49:35Z</dcterms:modified>
  <cp:revision>118</cp:revision>
  <dc:subject/>
  <dc:title>Slide 1</dc:title>
</cp:coreProperties>
</file>